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D49-70C1-4711-976A-702B6DCC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9AE-5AAE-4C6B-A386-EBC5006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709-E6E2-4561-AAFA-9D435618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34B-2584-4D5E-B8D9-DDB99C34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CDD-8E1E-4110-B1B7-FA0D8B6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55F-17C6-4E25-98B4-5224661D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696-8CAE-4167-91A6-5149934C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779-46A8-4582-AAAE-AB2873CE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700-C59E-4E9E-9CAE-3B933FB4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C0B-10A9-4F1C-8691-9724547C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179-9196-4E0F-8A7B-3B70C93F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2B7-4FF6-463A-BC8A-94296CB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A5B3-C8EE-4E5A-90F3-C2DAD0B2A4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mbria"/>
              </a:rPr>
              <a:t>2A Dependent and Independent Variabl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Data that contains two variables is called </a:t>
            </a: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bivariate data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n a relationship between two sets of variables, the values of one variable often depend on the values of another variab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e plot the dependent variable on the vertical (y) axis and the independent variable on the horizontal (x) ax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"/>
              </a:rPr>
              <a:t>You need to make a judgment about which variable is dependent and which is independent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Number of skiers and depth of snow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Number of pies sold at footy and temperatur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In a factory, hours worked and pay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Circumference of an athlete’s biceps and ability to perform a lift test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A person’s height and favourite tv show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"/>
              </a:rPr>
              <a:t>The running cost of a car and the age of a car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ercise 2A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Do all the questio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1:47:29Z</dcterms:created>
  <dc:creator>08843474</dc:creator>
  <dc:description/>
  <dc:language>en-US</dc:language>
  <cp:lastModifiedBy>08843474</cp:lastModifiedBy>
  <dcterms:modified xsi:type="dcterms:W3CDTF">2011-02-06T02:21:49Z</dcterms:modified>
  <cp:revision>5</cp:revision>
  <dc:subject/>
  <dc:title>Slide 1</dc:title>
</cp:coreProperties>
</file>